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D298E3-3EEE-45AD-9448-EA3268140F1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7C4268-7D72-4A37-806D-F3987BC12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B72483-64A5-4732-8D14-03D42E308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384D42-30DC-4DCF-8BD2-4F872241FE2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1A208A-47D4-444B-A43C-30710AF5E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580B18-5695-4B66-9AF7-C66D0E332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491F15-3EAA-4DB4-A86F-8EF1CCAB6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593A98-DC84-48C5-9FDC-ED9F7FC3D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E1CCD7-81ED-4A05-BC0B-4EF5C539D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7ACAEC-AEB0-4D9A-8C45-7096BCA5C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AFB911-3FFF-4D0C-A828-7189BAF6A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B6D7AB-2F50-4121-AC90-A79C49819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ECA75-04A9-4B69-B990-281AB6FAD985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prstGeom prst="pie">
              <a:avLst/>
            </a:pr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1080"/>
              <a:ext cx="9115560" cy="1816560"/>
              <a:chOff x="28440" y="5041080"/>
              <a:chExt cx="9115560" cy="181656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1080"/>
                <a:ext cx="9115560" cy="18165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1080"/>
                <a:ext cx="9115560" cy="1018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prstGeom prst="pie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0920" y="2852640"/>
            <a:ext cx="820728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十八章</a:t>
            </a:r>
            <a:r>
              <a:rPr b="1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妇女保健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工作范围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68360" y="1828440"/>
            <a:ext cx="820728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妇女各期保健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实行孕产妇系统管理，提高围生期保健质量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计划生育指导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常见妇女病及恶性肿痛的普查普治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贯切落实妇女劳动保健制度。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AutoShape 5"/>
          <p:cNvSpPr/>
          <p:nvPr/>
        </p:nvSpPr>
        <p:spPr>
          <a:xfrm>
            <a:off x="1658880" y="3700440"/>
            <a:ext cx="5708880" cy="1692360"/>
          </a:xfrm>
          <a:prstGeom prst="upArrow">
            <a:avLst>
              <a:gd name="adj1" fmla="val 57824"/>
              <a:gd name="adj2" fmla="val 54398"/>
            </a:avLst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24" name="Group 40"/>
          <p:cNvGrpSpPr/>
          <p:nvPr/>
        </p:nvGrpSpPr>
        <p:grpSpPr>
          <a:xfrm>
            <a:off x="4751280" y="3733920"/>
            <a:ext cx="1405080" cy="1463400"/>
            <a:chOff x="4751280" y="3733920"/>
            <a:chExt cx="1405080" cy="1463400"/>
          </a:xfrm>
        </p:grpSpPr>
        <p:sp>
          <p:nvSpPr>
            <p:cNvPr id="125" name="Oval 41"/>
            <p:cNvSpPr/>
            <p:nvPr/>
          </p:nvSpPr>
          <p:spPr>
            <a:xfrm>
              <a:off x="4751280" y="3733920"/>
              <a:ext cx="1405080" cy="1463400"/>
            </a:xfrm>
            <a:prstGeom prst="ellipse">
              <a:avLst/>
            </a:prstGeom>
            <a:gradFill rotWithShape="0">
              <a:gsLst>
                <a:gs pos="0">
                  <a:srgbClr val="ddb523"/>
                </a:gs>
                <a:gs pos="100000">
                  <a:srgbClr val="725d1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6" name="Freeform 42"/>
            <p:cNvSpPr/>
            <p:nvPr/>
          </p:nvSpPr>
          <p:spPr>
            <a:xfrm>
              <a:off x="4911840" y="3757320"/>
              <a:ext cx="1084680" cy="5518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b52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工作内容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28" name="Group 13"/>
          <p:cNvGrpSpPr/>
          <p:nvPr/>
        </p:nvGrpSpPr>
        <p:grpSpPr>
          <a:xfrm>
            <a:off x="1619280" y="3754440"/>
            <a:ext cx="1405080" cy="1463760"/>
            <a:chOff x="1619280" y="3754440"/>
            <a:chExt cx="1405080" cy="1463760"/>
          </a:xfrm>
        </p:grpSpPr>
        <p:sp>
          <p:nvSpPr>
            <p:cNvPr id="129" name="Oval 14"/>
            <p:cNvSpPr/>
            <p:nvPr/>
          </p:nvSpPr>
          <p:spPr>
            <a:xfrm>
              <a:off x="1619280" y="3754440"/>
              <a:ext cx="1405080" cy="1463760"/>
            </a:xfrm>
            <a:prstGeom prst="ellipse">
              <a:avLst/>
            </a:prstGeom>
            <a:gradFill rotWithShape="0">
              <a:gsLst>
                <a:gs pos="0">
                  <a:srgbClr val="ddb523"/>
                </a:gs>
                <a:gs pos="100000">
                  <a:srgbClr val="725d1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0" name="Freeform 15"/>
            <p:cNvSpPr/>
            <p:nvPr/>
          </p:nvSpPr>
          <p:spPr>
            <a:xfrm>
              <a:off x="1779840" y="3777840"/>
              <a:ext cx="1084680" cy="5522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b52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31" name="Text Box 16"/>
          <p:cNvSpPr/>
          <p:nvPr/>
        </p:nvSpPr>
        <p:spPr>
          <a:xfrm>
            <a:off x="1692360" y="4357800"/>
            <a:ext cx="1265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华文细黑"/>
              </a:rPr>
              <a:t>围婚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华文细黑"/>
              </a:rPr>
              <a:t>保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Oval 17"/>
          <p:cNvSpPr/>
          <p:nvPr/>
        </p:nvSpPr>
        <p:spPr>
          <a:xfrm>
            <a:off x="1865160" y="5262480"/>
            <a:ext cx="1051200" cy="327240"/>
          </a:xfrm>
          <a:prstGeom prst="ellipse">
            <a:avLst/>
          </a:prstGeom>
          <a:gradFill rotWithShape="0">
            <a:gsLst>
              <a:gs pos="0">
                <a:srgbClr val="dddddd"/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Oval 23"/>
          <p:cNvSpPr/>
          <p:nvPr/>
        </p:nvSpPr>
        <p:spPr>
          <a:xfrm>
            <a:off x="4932360" y="5275440"/>
            <a:ext cx="1050840" cy="326880"/>
          </a:xfrm>
          <a:prstGeom prst="ellipse">
            <a:avLst/>
          </a:prstGeom>
          <a:gradFill rotWithShape="0">
            <a:gsLst>
              <a:gs pos="0">
                <a:srgbClr val="dddddd"/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34" name="Group 30"/>
          <p:cNvGrpSpPr/>
          <p:nvPr/>
        </p:nvGrpSpPr>
        <p:grpSpPr>
          <a:xfrm>
            <a:off x="7632720" y="3754440"/>
            <a:ext cx="1403280" cy="1834920"/>
            <a:chOff x="7632720" y="3754440"/>
            <a:chExt cx="1403280" cy="1834920"/>
          </a:xfrm>
        </p:grpSpPr>
        <p:grpSp>
          <p:nvGrpSpPr>
            <p:cNvPr id="135" name="Group 31"/>
            <p:cNvGrpSpPr/>
            <p:nvPr/>
          </p:nvGrpSpPr>
          <p:grpSpPr>
            <a:xfrm>
              <a:off x="7632720" y="3754440"/>
              <a:ext cx="1403280" cy="1474920"/>
              <a:chOff x="7632720" y="3754440"/>
              <a:chExt cx="1403280" cy="1474920"/>
            </a:xfrm>
          </p:grpSpPr>
          <p:sp>
            <p:nvSpPr>
              <p:cNvPr id="136" name="Oval 32"/>
              <p:cNvSpPr/>
              <p:nvPr/>
            </p:nvSpPr>
            <p:spPr>
              <a:xfrm>
                <a:off x="7632720" y="3754440"/>
                <a:ext cx="1403280" cy="1474920"/>
              </a:xfrm>
              <a:prstGeom prst="ellipse">
                <a:avLst/>
              </a:prstGeom>
              <a:gradFill rotWithShape="0">
                <a:gsLst>
                  <a:gs pos="0">
                    <a:srgbClr val="969696"/>
                  </a:gs>
                  <a:gs pos="100000">
                    <a:srgbClr val="24242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7792920" y="3778920"/>
                <a:ext cx="1082520" cy="5565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69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38" name="Text Box 34"/>
            <p:cNvSpPr/>
            <p:nvPr/>
          </p:nvSpPr>
          <p:spPr>
            <a:xfrm>
              <a:off x="7779240" y="4285800"/>
              <a:ext cx="1151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Arial"/>
                  <a:ea typeface="华文细黑"/>
                </a:rPr>
                <a:t>老年期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Arial"/>
                  <a:ea typeface="华文细黑"/>
                </a:rPr>
                <a:t>保健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39" name="Oval 35"/>
            <p:cNvSpPr/>
            <p:nvPr/>
          </p:nvSpPr>
          <p:spPr>
            <a:xfrm>
              <a:off x="7856280" y="5262480"/>
              <a:ext cx="1049760" cy="32688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40" name="Text Box 22"/>
          <p:cNvSpPr/>
          <p:nvPr/>
        </p:nvSpPr>
        <p:spPr>
          <a:xfrm>
            <a:off x="5121720" y="4314960"/>
            <a:ext cx="729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华文细黑"/>
              </a:rPr>
              <a:t>围生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华文细黑"/>
              </a:rPr>
              <a:t>保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41" name="Group 43"/>
          <p:cNvGrpSpPr/>
          <p:nvPr/>
        </p:nvGrpSpPr>
        <p:grpSpPr>
          <a:xfrm>
            <a:off x="2428920" y="1857240"/>
            <a:ext cx="4535280" cy="863640"/>
            <a:chOff x="2428920" y="1857240"/>
            <a:chExt cx="4535280" cy="863640"/>
          </a:xfrm>
        </p:grpSpPr>
        <p:sp>
          <p:nvSpPr>
            <p:cNvPr id="142" name="AutoShape 44"/>
            <p:cNvSpPr/>
            <p:nvPr/>
          </p:nvSpPr>
          <p:spPr>
            <a:xfrm>
              <a:off x="2428920" y="1857240"/>
              <a:ext cx="4535280" cy="86364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3f3f3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3" name="Text Box 45"/>
            <p:cNvSpPr/>
            <p:nvPr/>
          </p:nvSpPr>
          <p:spPr>
            <a:xfrm>
              <a:off x="2428920" y="2073240"/>
              <a:ext cx="4524120" cy="56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10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华文中宋"/>
                </a:rPr>
                <a:t>             </a:t>
              </a:r>
              <a:r>
                <a:rPr b="0" lang="zh-CN" sz="2800" spc="-1" strike="noStrike">
                  <a:solidFill>
                    <a:srgbClr val="046ca6"/>
                  </a:solidFill>
                  <a:latin typeface="Arial"/>
                  <a:ea typeface="华文中宋"/>
                </a:rPr>
                <a:t>妇女各期保健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44" name="Group 30"/>
          <p:cNvGrpSpPr/>
          <p:nvPr/>
        </p:nvGrpSpPr>
        <p:grpSpPr>
          <a:xfrm>
            <a:off x="6192720" y="3714840"/>
            <a:ext cx="1403640" cy="1887120"/>
            <a:chOff x="6192720" y="3714840"/>
            <a:chExt cx="1403640" cy="1887120"/>
          </a:xfrm>
        </p:grpSpPr>
        <p:grpSp>
          <p:nvGrpSpPr>
            <p:cNvPr id="145" name="Group 31"/>
            <p:cNvGrpSpPr/>
            <p:nvPr/>
          </p:nvGrpSpPr>
          <p:grpSpPr>
            <a:xfrm>
              <a:off x="6192720" y="3714840"/>
              <a:ext cx="1403640" cy="1474200"/>
              <a:chOff x="6192720" y="3714840"/>
              <a:chExt cx="1403640" cy="1474200"/>
            </a:xfrm>
          </p:grpSpPr>
          <p:sp>
            <p:nvSpPr>
              <p:cNvPr id="146" name="Oval 32"/>
              <p:cNvSpPr/>
              <p:nvPr/>
            </p:nvSpPr>
            <p:spPr>
              <a:xfrm>
                <a:off x="6192720" y="3714840"/>
                <a:ext cx="1403640" cy="1474200"/>
              </a:xfrm>
              <a:prstGeom prst="ellipse">
                <a:avLst/>
              </a:prstGeom>
              <a:gradFill rotWithShape="0">
                <a:gsLst>
                  <a:gs pos="0">
                    <a:srgbClr val="969696"/>
                  </a:gs>
                  <a:gs pos="100000">
                    <a:srgbClr val="24242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47" name="Freeform 33"/>
              <p:cNvSpPr/>
              <p:nvPr/>
            </p:nvSpPr>
            <p:spPr>
              <a:xfrm>
                <a:off x="6352920" y="3738960"/>
                <a:ext cx="1082880" cy="5562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69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48" name="Text Box 34"/>
            <p:cNvSpPr/>
            <p:nvPr/>
          </p:nvSpPr>
          <p:spPr>
            <a:xfrm>
              <a:off x="6335640" y="4286520"/>
              <a:ext cx="12200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Arial"/>
                  <a:ea typeface="华文细黑"/>
                </a:rPr>
                <a:t>围绝经期保健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49" name="Oval 35"/>
            <p:cNvSpPr/>
            <p:nvPr/>
          </p:nvSpPr>
          <p:spPr>
            <a:xfrm>
              <a:off x="6394680" y="5275080"/>
              <a:ext cx="1051200" cy="32688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50" name="Group 30"/>
          <p:cNvGrpSpPr/>
          <p:nvPr/>
        </p:nvGrpSpPr>
        <p:grpSpPr>
          <a:xfrm>
            <a:off x="179280" y="3767040"/>
            <a:ext cx="1403280" cy="1834920"/>
            <a:chOff x="179280" y="3767040"/>
            <a:chExt cx="1403280" cy="1834920"/>
          </a:xfrm>
        </p:grpSpPr>
        <p:grpSp>
          <p:nvGrpSpPr>
            <p:cNvPr id="151" name="Group 31"/>
            <p:cNvGrpSpPr/>
            <p:nvPr/>
          </p:nvGrpSpPr>
          <p:grpSpPr>
            <a:xfrm>
              <a:off x="179280" y="3767040"/>
              <a:ext cx="1403280" cy="1474920"/>
              <a:chOff x="179280" y="3767040"/>
              <a:chExt cx="1403280" cy="1474920"/>
            </a:xfrm>
          </p:grpSpPr>
          <p:sp>
            <p:nvSpPr>
              <p:cNvPr id="152" name="Oval 32"/>
              <p:cNvSpPr/>
              <p:nvPr/>
            </p:nvSpPr>
            <p:spPr>
              <a:xfrm>
                <a:off x="179280" y="3767040"/>
                <a:ext cx="1403280" cy="1474920"/>
              </a:xfrm>
              <a:prstGeom prst="ellipse">
                <a:avLst/>
              </a:prstGeom>
              <a:gradFill rotWithShape="0">
                <a:gsLst>
                  <a:gs pos="0">
                    <a:srgbClr val="969696"/>
                  </a:gs>
                  <a:gs pos="100000">
                    <a:srgbClr val="24242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53" name="Freeform 33"/>
              <p:cNvSpPr/>
              <p:nvPr/>
            </p:nvSpPr>
            <p:spPr>
              <a:xfrm>
                <a:off x="339480" y="3791520"/>
                <a:ext cx="1082520" cy="5565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69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54" name="Text Box 34"/>
            <p:cNvSpPr/>
            <p:nvPr/>
          </p:nvSpPr>
          <p:spPr>
            <a:xfrm>
              <a:off x="296280" y="4357440"/>
              <a:ext cx="1194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0000"/>
                  </a:solidFill>
                  <a:latin typeface="Arial"/>
                  <a:ea typeface="华文细黑"/>
                </a:rPr>
                <a:t>青春期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0000"/>
                  </a:solidFill>
                  <a:latin typeface="Arial"/>
                  <a:ea typeface="华文细黑"/>
                </a:rPr>
                <a:t>保健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5" name="Oval 35"/>
            <p:cNvSpPr/>
            <p:nvPr/>
          </p:nvSpPr>
          <p:spPr>
            <a:xfrm>
              <a:off x="402840" y="5275080"/>
              <a:ext cx="1049760" cy="326880"/>
            </a:xfrm>
            <a:prstGeom prst="ellipse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156" name="Group 40"/>
          <p:cNvGrpSpPr/>
          <p:nvPr/>
        </p:nvGrpSpPr>
        <p:grpSpPr>
          <a:xfrm>
            <a:off x="3059280" y="3716280"/>
            <a:ext cx="1404720" cy="1463760"/>
            <a:chOff x="3059280" y="3716280"/>
            <a:chExt cx="1404720" cy="1463760"/>
          </a:xfrm>
        </p:grpSpPr>
        <p:sp>
          <p:nvSpPr>
            <p:cNvPr id="157" name="Oval 41"/>
            <p:cNvSpPr/>
            <p:nvPr/>
          </p:nvSpPr>
          <p:spPr>
            <a:xfrm>
              <a:off x="3059280" y="3716280"/>
              <a:ext cx="1404720" cy="1463760"/>
            </a:xfrm>
            <a:prstGeom prst="ellipse">
              <a:avLst/>
            </a:prstGeom>
            <a:gradFill rotWithShape="0">
              <a:gsLst>
                <a:gs pos="0">
                  <a:srgbClr val="ddb523"/>
                </a:gs>
                <a:gs pos="100000">
                  <a:srgbClr val="725d1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58" name="Freeform 42"/>
            <p:cNvSpPr/>
            <p:nvPr/>
          </p:nvSpPr>
          <p:spPr>
            <a:xfrm>
              <a:off x="3219840" y="3739680"/>
              <a:ext cx="1084320" cy="5522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b52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59" name="Text Box 22"/>
          <p:cNvSpPr/>
          <p:nvPr/>
        </p:nvSpPr>
        <p:spPr>
          <a:xfrm>
            <a:off x="3393000" y="4292640"/>
            <a:ext cx="729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华文细黑"/>
              </a:rPr>
              <a:t>生育期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华文细黑"/>
              </a:rPr>
              <a:t>保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Oval 17"/>
          <p:cNvSpPr/>
          <p:nvPr/>
        </p:nvSpPr>
        <p:spPr>
          <a:xfrm>
            <a:off x="3187800" y="5275440"/>
            <a:ext cx="1050840" cy="326880"/>
          </a:xfrm>
          <a:prstGeom prst="ellipse">
            <a:avLst/>
          </a:prstGeom>
          <a:gradFill rotWithShape="0">
            <a:gsLst>
              <a:gs pos="0">
                <a:srgbClr val="dddddd"/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工作内容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68360" y="1828440"/>
            <a:ext cx="820728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青春期保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青春期卫生宣教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常见疾病的防治。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工作内容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68360" y="1828440"/>
            <a:ext cx="820728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围婚期保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婚前医学检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围婚期健康教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婚前卫生咨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工作内容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68360" y="1828440"/>
            <a:ext cx="820728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生育期保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   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此期主要任务是维持生殖功能。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工作内容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68360" y="1828440"/>
            <a:ext cx="820728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青春期保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</a:rPr>
              <a:t>1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孕前期保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Verdana"/>
              </a:rPr>
              <a:t> 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</a:rPr>
              <a:t>2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孕期保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Verdana"/>
              </a:rPr>
              <a:t> 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</a:rPr>
              <a:t>3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分娩期保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Verdana"/>
              </a:rPr>
              <a:t> 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</a:rPr>
              <a:t>4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产褥期保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Verdana"/>
              </a:rPr>
              <a:t> 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</a:rPr>
              <a:t>5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哺乳期保健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工作内容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68360" y="1828440"/>
            <a:ext cx="820728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围绝经期期保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</a:rPr>
              <a:t>1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多途径健康宣教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Verdana"/>
              </a:rPr>
              <a:t> 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</a:rPr>
              <a:t>2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预防子宫脱垂与尿失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Verdana"/>
              </a:rPr>
              <a:t> 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</a:rPr>
              <a:t>3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指导此期避孕及节育器的取出  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工作内容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68360" y="1828440"/>
            <a:ext cx="820728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-23652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绝经后保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36520" indent="-236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起居规律，饮食合理，心情舒畅，适度锻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36520" indent="-236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保持外阴清洁，预防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36520" indent="-236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如有阴道流血应积极诊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36520" indent="-236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4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防止发生子宫脱垂及张力性尿失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36520" indent="-236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5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定期妇科检查及全身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36520" indent="-236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6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加大补钙剂量，预防绝经后骨质疏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236520" indent="-236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7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可以继续行激素替代治疗，但应适当减量  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工作内容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68360" y="1828440"/>
            <a:ext cx="820728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计划生育技术指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妇女病及恶性肿瘤的普查防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</a:rPr>
              <a:t>妇女劳动保护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928520" y="3071520"/>
            <a:ext cx="5838840" cy="105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0c0"/>
                </a:solidFill>
                <a:latin typeface="黑体"/>
                <a:ea typeface="黑体"/>
              </a:rPr>
              <a:t>第一节</a:t>
            </a:r>
            <a:r>
              <a:rPr b="1" lang="en-US" sz="4000" spc="-1" strike="noStrike">
                <a:solidFill>
                  <a:srgbClr val="0070c0"/>
                </a:solidFill>
                <a:latin typeface="黑体"/>
                <a:ea typeface="黑体"/>
              </a:rPr>
              <a:t>  </a:t>
            </a:r>
            <a:r>
              <a:rPr b="1" lang="zh-CN" sz="4000" spc="-1" strike="noStrike">
                <a:solidFill>
                  <a:srgbClr val="0070c0"/>
                </a:solidFill>
                <a:latin typeface="黑体"/>
                <a:ea typeface="黑体"/>
              </a:rPr>
              <a:t>概  述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定义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611280" y="2060640"/>
            <a:ext cx="79992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70c0"/>
                </a:solidFill>
                <a:uFillTx/>
                <a:latin typeface="Verdana"/>
                <a:ea typeface="宋体"/>
              </a:rPr>
              <a:t>妇女保健（</a:t>
            </a:r>
            <a:r>
              <a:rPr b="1" lang="en-US" sz="2800" spc="-1" strike="noStrike" u="sng">
                <a:solidFill>
                  <a:srgbClr val="0070c0"/>
                </a:solidFill>
                <a:uFillTx/>
                <a:latin typeface="Verdana"/>
                <a:ea typeface="宋体"/>
              </a:rPr>
              <a:t>women’s  health care</a:t>
            </a:r>
            <a:r>
              <a:rPr b="1" lang="zh-CN" sz="2800" spc="-1" strike="noStrike" u="sng">
                <a:solidFill>
                  <a:srgbClr val="0070c0"/>
                </a:solidFill>
                <a:uFillTx/>
                <a:latin typeface="Verdana"/>
                <a:ea typeface="宋体"/>
              </a:rPr>
              <a:t>）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是指以先进的医学科学技术、有效的防治措施及合理的管理方法对妇女一生各时期进行保健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意义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611280" y="2060640"/>
            <a:ext cx="799920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是我国卫生保健事业重要组成部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宗旨是维护和促进妇女身心健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目的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14440" y="1899720"/>
            <a:ext cx="7772400" cy="25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    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降低孕产妇及围生儿死亡率，减少患病率和伤残率，控制某些疾病发生及性传播疾病的传播，提高妇女生活质量，促进妇女生殖健康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方法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42600" y="1856880"/>
            <a:ext cx="8001000" cy="389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华文细黑"/>
                <a:ea typeface="华文细黑"/>
              </a:rPr>
              <a:t>1.  </a:t>
            </a:r>
            <a:r>
              <a:rPr b="1" lang="zh-CN" sz="2800" spc="-1" strike="noStrike">
                <a:solidFill>
                  <a:srgbClr val="0070c0"/>
                </a:solidFill>
                <a:latin typeface="华文细黑"/>
                <a:ea typeface="华文细黑"/>
              </a:rPr>
              <a:t>多部门协作，强调全社会参与和政府职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华文细黑"/>
                <a:ea typeface="华文细黑"/>
              </a:rPr>
              <a:t>2.  </a:t>
            </a:r>
            <a:r>
              <a:rPr b="1" lang="zh-CN" sz="2800" spc="-1" strike="noStrike">
                <a:solidFill>
                  <a:srgbClr val="0070c0"/>
                </a:solidFill>
                <a:latin typeface="华文细黑"/>
                <a:ea typeface="华文细黑"/>
              </a:rPr>
              <a:t>加强三级妇幼保健网的建设，提高专业队伍的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细黑"/>
                <a:ea typeface="华文细黑"/>
              </a:rPr>
              <a:t>业务技能水平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1749"/>
              </a:spcBef>
              <a:buClr>
                <a:srgbClr val="0070c0"/>
              </a:buClr>
              <a:buFont typeface="华文细黑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细黑"/>
                <a:ea typeface="华文细黑"/>
              </a:rPr>
              <a:t>深入调查研究，制订切实可行的工作计划和防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华文细黑"/>
                <a:ea typeface="华文细黑"/>
              </a:rPr>
              <a:t>治措施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华文细黑"/>
                <a:ea typeface="华文细黑"/>
              </a:rPr>
              <a:t>4.  </a:t>
            </a:r>
            <a:r>
              <a:rPr b="1" lang="zh-CN" sz="2800" spc="-1" strike="noStrike">
                <a:solidFill>
                  <a:srgbClr val="0070c0"/>
                </a:solidFill>
                <a:latin typeface="华文细黑"/>
                <a:ea typeface="华文细黑"/>
              </a:rPr>
              <a:t>广泛开展社会宣传，普及卫生宣教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组织机构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71320" y="1500120"/>
            <a:ext cx="80010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宋体"/>
              </a:rPr>
              <a:t>卫生行政机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国家卫生和计划生育委员会内设妇幼健康服务司并下设妇女服务处、儿童服务处、计划生育服务处，领导全国妇幼保健工作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省（直辖市、自治区）卫生厅设基层卫生与妇幼保健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3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市（地）级卫生局设妇幼保健科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【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组织机构】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23640" y="1428840"/>
            <a:ext cx="8569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Times New Roman"/>
                <a:ea typeface="宋体"/>
              </a:rPr>
              <a:t>专业机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妇幼卫生专业机构各级妇产科医院、儿童医院，综合性医院妇产科、计划生育科、儿科、预防保健科；中医医疗机构中妇科、儿科，妇产科、儿科诊所以及各级，妇幼保健机构，不论其所有制关系如何（全民、集体、个体）均属妇幼卫生专业机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   </a:t>
            </a:r>
            <a:r>
              <a:rPr b="1" lang="en-US" sz="2800" spc="-1" strike="noStrike">
                <a:solidFill>
                  <a:srgbClr val="0070c0"/>
                </a:solidFill>
                <a:latin typeface="Verdana"/>
                <a:ea typeface="宋体"/>
              </a:rPr>
              <a:t>2.</a:t>
            </a:r>
            <a:r>
              <a:rPr b="1" lang="zh-CN" sz="2800" spc="-1" strike="noStrike">
                <a:solidFill>
                  <a:srgbClr val="0070c0"/>
                </a:solidFill>
                <a:latin typeface="Verdana"/>
                <a:ea typeface="宋体"/>
              </a:rPr>
              <a:t>各级妇幼保健机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928880" y="3071520"/>
            <a:ext cx="6500880" cy="105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0c0"/>
                </a:solidFill>
                <a:latin typeface="黑体"/>
                <a:ea typeface="黑体"/>
              </a:rPr>
              <a:t>第二节</a:t>
            </a:r>
            <a:r>
              <a:rPr b="1" lang="en-US" sz="4000" spc="-1" strike="noStrike">
                <a:solidFill>
                  <a:srgbClr val="0070c0"/>
                </a:solidFill>
                <a:latin typeface="黑体"/>
                <a:ea typeface="黑体"/>
              </a:rPr>
              <a:t>  </a:t>
            </a:r>
            <a:r>
              <a:rPr b="1" lang="zh-CN" sz="4000" spc="-1" strike="noStrike">
                <a:solidFill>
                  <a:srgbClr val="0070c0"/>
                </a:solidFill>
                <a:latin typeface="黑体"/>
                <a:ea typeface="黑体"/>
              </a:rPr>
              <a:t>妇女保健工作范围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dell</cp:lastModifiedBy>
  <cp:lastPrinted>1899-12-30T00:00:00Z</cp:lastPrinted>
  <dcterms:modified xsi:type="dcterms:W3CDTF">2015-11-11T09:43:46Z</dcterms:modified>
  <cp:revision>21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